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5F87-E237-4604-AF03-0A9215F21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3F30-1383-408E-9D32-02ED15E03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B55E-85EE-4987-9202-6D8AE6343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C586-4BBE-48E5-A2FF-411223F5C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5DE7-6E83-4E43-B952-B0BE99024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E74F-947C-4084-BBC9-C5120AF26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BE92-5AD8-45B8-806A-F810D1428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159F-83E6-4FF7-90BF-198F35FB8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C61F-7C84-4B50-A107-D6A5D2936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6A22-D4B6-4681-836F-A2DEEE8F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0959-B6C5-45C2-A256-711C3C346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9E8E-E28E-42C1-AE7D-40C8A10B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70562-2048-4F6A-9143-E0238DD4ED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-76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Me llamo _________</a:t>
            </a: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    Clase 7 IL</a:t>
            </a:r>
            <a:br>
              <a:rPr sz="3600"/>
            </a:b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La fecha es el 6 de febrero del 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0000"/>
                </a:solidFill>
                <a:latin typeface="Arial"/>
              </a:rPr>
              <a:t>Propósito # 52:</a:t>
            </a:r>
            <a:r>
              <a:rPr b="0" lang="es-ES_tradnl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¿Qué esta haciendo el agente de la aduana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s-ES_tradnl" sz="2600" spc="-1" strike="noStrike" u="sng">
                <a:solidFill>
                  <a:srgbClr val="000000"/>
                </a:solidFill>
                <a:uFillTx/>
                <a:latin typeface="Arial"/>
              </a:rPr>
              <a:t>Ejercicio 3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p. 93 (1-6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l avión aterriza cuando empieza el vuel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Los pasajeros reclaman su equipaje a bordo del av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Los asistentes de vuelo conocen muy bien a todos los pasajeros porque son sus amig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l avión despega cuando llega a su destin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Los agentes de la línea aérea que trabajan en el mostrador en el aeropuerto son miembros de la tripulac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Un vuelo internacional es un vuelo que va a un país extranjer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-990720" y="0"/>
            <a:ext cx="11277720" cy="76201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5"/>
          <p:cNvSpPr/>
          <p:nvPr/>
        </p:nvSpPr>
        <p:spPr>
          <a:xfrm>
            <a:off x="2689200" y="838080"/>
            <a:ext cx="6531120" cy="138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ee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¿Cómo lo digo?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P8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ierto o Falso; If the statement is false, make the corr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-838080" y="0"/>
            <a:ext cx="11430000" cy="76201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9"/>
          <p:cNvSpPr/>
          <p:nvPr/>
        </p:nvSpPr>
        <p:spPr>
          <a:xfrm>
            <a:off x="2994120" y="838080"/>
            <a:ext cx="65307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py and write 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SI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if the conversation makes sense and 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N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if it doesn’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as 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pia y respon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iénes son los miembros de la tripulació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ién inspecciona el equipaj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spués que desembarcan, ¿Qué tienen que hacer los pasajer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ienes pasan por el control de segurida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5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p. 4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¾ on FRIDAY!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rport vocabulary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e Progres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TEXTBOOK pgs. 87-9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3:55:28Z</dcterms:created>
  <dc:creator>Helen Zumaeta</dc:creator>
  <dc:description/>
  <dc:language>en-US</dc:language>
  <cp:lastModifiedBy>Helen Zumaeta</cp:lastModifiedBy>
  <dcterms:modified xsi:type="dcterms:W3CDTF">2013-02-06T22:12:39Z</dcterms:modified>
  <cp:revision>10</cp:revision>
  <dc:subject/>
  <dc:title>Me llamo _________     Clase 7 IM La fecha es el 28 de octubre del 2011</dc:title>
</cp:coreProperties>
</file>